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705-9F57-4353-9CAA-9BCF41EC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B40-F618-4B00-9A02-2B80E24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07F-0161-449C-9F7A-80604492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67E-22EF-4A83-AD8E-D473CA37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C2B-6260-4B94-A23A-D7B3D77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DB1-AFF2-4101-B01C-3358EB83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DD33-7DC9-4EB5-8E88-487DCB3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456F-09AE-4F38-98B9-9475042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5F2A-F88A-492E-882B-F88029C2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35DA-8D07-4CBE-8988-2D7EB8F8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23E6-7EB1-4AC2-9EFD-8611F7E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8C9-F57C-4720-A537-412AEE7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D2A-1EFF-4BC5-9AA7-849BF422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7922-4019-437E-ACBC-4D54BCF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54B5-192F-4337-8B57-15539B7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E005-E24A-4B78-838C-44321F97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ECC3-AB6E-459E-8C93-07E980E5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F004-9FAA-4381-8C24-875B5713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A4DB-5D8A-4B38-B732-3B7544A5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7513-227A-4721-9A2C-EC24E5A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39DA-72E4-4D2B-BA31-784BB6A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FA97-9B75-4313-B2F1-AB7651ED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BF2-78E9-4F4E-ACAC-1741BE8E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FECF-2F90-4FC0-936B-71FEAFF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A96C-5598-4D77-89AB-98CF40CB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53EA-0FF2-4DFD-B72B-52B3AB2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A12C-371C-4FFD-929E-9CD5809C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CA96-94DB-439C-BD67-B5C972D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7B31-CDEF-46ED-AFD2-62DF4C30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658E-5D10-49F4-A39C-610C5721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F32C-2AD8-4D3B-A7DA-5C3064C4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B16F-600C-498A-85EB-07EFB1FF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67EA-54F2-4F5F-82C7-EA51E81E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C56-23A7-40BE-8BDB-D460A6E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F901-7A7C-4CE7-8F15-A3AA154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5697-D4C1-40BE-9406-C588D4A9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2EBE-0F52-4706-863C-9D89055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BB28F-1CCE-40BA-8EAF-A5BC71B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462B-5087-4971-B830-77ACB93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0BFB-F2EC-4788-B690-40D3381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37A9-174A-4BE9-BD62-12BC320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AAA5-55C8-4765-B44E-9B883CDD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8E83-1EA1-44E5-9527-BF4956F8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E7C9-D286-43CB-AC8C-20B5A593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CB6-9E55-4E18-AC83-BF4FD11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D8E0-2C6C-4BFF-AAED-8EE4E5F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2253-D55D-4899-B133-F10F758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9408-88FB-4474-9E7C-28BBD9E4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0D50-8BC7-4C6D-8CE8-050A080F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5A68-927D-43E5-92E9-87617F8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35EF-5F27-4585-A8E7-BAD81C9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158EC-8AB2-4050-BA6A-37BFE9E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2FFE-3977-47E1-AF1E-5729C2F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5F7F-89CE-4A66-91D8-9E98426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9487-F2BA-47EE-A9DF-D86336B3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98E-EE7B-478D-B216-C338071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3450-8B36-4855-85B2-3AD9D2B7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2412-8E5F-4F7C-ADF2-6631B1CD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FB93-5BA6-47DC-BA30-7B5E0059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147E-FFD3-433F-8B71-1F4B8C5B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B2C7-DC33-4F3E-8DD0-48F52CF6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8DE2-7EE9-410A-9390-31BA623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8264-A3D8-49A2-B914-D4E453E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03EC-C3C4-4B91-A079-331C056A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4359-20A1-40B2-874C-4FF1D88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091C4-7CA8-4241-905E-F61759D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D35-2CB1-4ADA-9214-8A4462BF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120E-9E55-4027-B9BE-912ACB9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22E3-1417-45A4-900C-A98110F5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EB6C-AB4E-4AFD-BA3A-385CBC15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4563D-553E-4689-B8E4-BAC1E5FC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0FDCC-190E-4ACD-9292-5AD57F8B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F3C8-11DC-4AB4-8DB9-414A1744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6C008-F8CB-4882-9A04-2D681A9E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F827-12DD-4187-83EF-D93AA36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1980-CD9F-465F-9ADB-B0B26C7D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F0447-3775-4C16-80DC-9F731D8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EEF-7E5A-42BD-8C72-5E789CD4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117C-1557-46CF-A2F6-0C34DE2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DD8A0-7149-4F4E-8432-8B8E849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E1597-63DF-4EAF-A7E9-87D09E4A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6471-A42E-40F5-B2E7-1CAFB479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3000-9B49-4FB8-9F49-CE4B35C0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ADFB-D711-40CA-A712-3E96842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B68A-052B-4E40-B87A-AC184D9A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89FA-D30B-4446-9B73-B1E064F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3DE69-D09D-4DE7-BB63-B17C280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B1E64-F0FE-4B57-8A4C-0AD6DB18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EA9-BFE8-42DD-8D21-1162C0F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4C98-F086-468B-87CF-7869993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BCDCD-05B4-48E7-ABD3-2B3EF2E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4183-6FBF-4BAE-8719-8567487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0BD2-E93E-4893-ADB6-6287D75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F7FE4-A93B-4B2F-90B1-B920C3DA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D360-38CA-4148-BA58-98F40ABF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139C-4C76-4760-8C50-98DA3877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B54C-A687-4501-A11B-27AE6C2991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DF65-5CD7-41D3-A294-D31388CBA6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97BF-DFA6-4C32-8BA8-96E1B3A2D8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BD4-7369-4CBA-ABBD-2137359718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B0B-B871-4F38-BC9D-EE0A68E24E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052-6C2D-4DF6-A6F1-F0F26C289E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7D9-6D3F-4DBE-BEEE-65703EF127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0A3E-6B99-4E59-B999-C8CD652DA7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822320"/>
            <a:ext cx="808992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3267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s addition or loss of one or more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ed a frameshif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more of an issue than substitutions as is changes the reading fr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sentence: “THE CAT ATE THE RA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lete “A” of CA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TA TET HER 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12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possible to change entire segments of a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four types: deletion, duplication, inversion, and translo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agment of chromosome lost during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386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piece broken off in a deletion reattaches to a homologous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55627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the fragment reattaches to original chromosome, but has “flipped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8229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gment reattaches to a nonhomologous chrom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02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seen that the order of nucleotides dictates the amino acid expres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 single base pair is changed in the genetic code, a different amino acid can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called a poin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s: substitutions and insertions or dele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nucleotide and its complement get replaced by another pa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ten this is a silent mutation – occurs on an intron, or does not change amino acid expres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if coding strand is changed from CGC to CGT, mRNA changes from CGC to CG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th codons yield an argini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mutation does change the amino acid, it is usually a missense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s sense, but not the right sen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he most commonly cited examples of this is sickle-cell dise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762120" y="1347840"/>
            <a:ext cx="7619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rare cases, it can change to a stop codon, leading to a premature termination of the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a nonsense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1:27:14Z</dcterms:created>
  <dc:creator>ED18</dc:creator>
  <dc:description/>
  <dc:language>en-US</dc:language>
  <cp:lastModifiedBy>ED18</cp:lastModifiedBy>
  <dcterms:modified xsi:type="dcterms:W3CDTF">2012-03-13T16:50:51Z</dcterms:modified>
  <cp:revision>33</cp:revision>
  <dc:subject/>
  <dc:title>Mutations</dc:title>
</cp:coreProperties>
</file>